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BE9-6D61-4D96-A232-C98574FC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CAA-A247-4236-B08A-3B93C0F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CAE-9634-412F-8DAD-0BDF2F6A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C4A-B351-4B84-9941-41A27F3D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C61-4326-4103-BD35-DBC586B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DFC-9EB2-4641-A2CE-7AED55C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E3D-C14E-40F6-B0B1-391A283A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F0D-3B46-47D5-9E05-EAEDBAF2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E76-3A46-47FC-8B8F-D239DC1E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B8-FECF-461F-99D3-BD53169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3A1-CE87-4D27-8BBE-74EC1CA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B23-D654-4766-B2EC-CB03610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B82-6816-4FF9-A12D-5F10B290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a 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2421000"/>
            <a:ext cx="54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thogen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read page 63 which describes the work of Semmelwe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complete Questions 3 and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n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6 keywords from today’s lesson. Write a keyword definition box in your book giving your definition for each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sheet of A4 paper. One person to act as sc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in small groups (3 or 4people who are sitting together,  write down the names of all the diseases that you and your family have h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id your group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list. Mark which ones you think were infect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Infectious dise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Pathogenic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2670480" cy="20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9960" y="3938760"/>
            <a:ext cx="317340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1886040" cy="1666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5867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3705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us b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athogens cause dis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thogens get into your body they multiply rapidly. They cause disease either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poisonous chemicals (toxins) which damage the body or its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damaging the cells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over the bodies cells to produce more of themselves (viruses) whilst destroying the cell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724280"/>
            <a:ext cx="67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869000"/>
            <a:ext cx="7993080" cy="1191240"/>
          </a:xfrm>
          <a:prstGeom prst="rect">
            <a:avLst/>
          </a:prstGeom>
          <a:solidFill>
            <a:srgbClr val="fa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00"/>
                </a:solidFill>
                <a:latin typeface="Arial"/>
              </a:rPr>
              <a:t>SYMPTOMS: these activities produce a reaction in your body which we call symptoms e.g. headaches, high temperature,sore throats and rashes. These symptoms are caused by the pathogens or the toxins they produ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5f5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ctives: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differences between Bacteria and Viruses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to know how pathogens cause disease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o learn how Semmelweiss tries to control the spread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ome differences between Bacteria and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ge 62 to read about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in your books put the Tit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Questions 1 and 2 from page 6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57680" cy="1676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2670120" cy="214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67012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148360" y="3789360"/>
            <a:ext cx="3314520" cy="2352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263700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can come in different shapes – rods , spirals or ball shapes.  They are all very tiny and can only be seen through a high powered microsc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67280" y="907920"/>
            <a:ext cx="1885680" cy="166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659640" y="1773360"/>
            <a:ext cx="186696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041480" cy="1062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3191040"/>
            <a:ext cx="1533240" cy="1533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4936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even smaller than bacteria.  They do not have the normal features of cells.  They have no cell walls and are very regular in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0:31:22Z</dcterms:created>
  <dc:creator>Pat</dc:creator>
  <dc:description/>
  <dc:language>en-US</dc:language>
  <cp:lastModifiedBy>Pat</cp:lastModifiedBy>
  <dcterms:modified xsi:type="dcterms:W3CDTF">2006-10-04T21:17:42Z</dcterms:modified>
  <cp:revision>4</cp:revision>
  <dc:subject/>
  <dc:title>Pathogens</dc:title>
</cp:coreProperties>
</file>